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3A2-4E87-4330-9AE9-DC97A542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410-898F-4FC2-A792-AA850F7A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6D6-75EC-49C1-8089-2EC96D4F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A6E-49EF-4F79-B121-8DAF6327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5DD-A18C-45C2-A084-1CCB13A8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8F2-7B1A-4B7C-94FC-DB14AF50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3511-A3C9-4634-8F88-036E014A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EA8-CAE3-4767-8464-139755B4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26B-96BD-4E34-8576-917C3DD7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A07-9C49-4BB0-B045-D121440B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E12B-A370-48BE-BCB0-DC145535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EAF-7B37-4B1B-A8EC-9F5DBDEF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1323-9FFC-4E4E-AD4C-3BFB8F3A3D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6920" y="5013000"/>
            <a:ext cx="46782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  <a:cs typeface="Ruqah2 Normal"/>
              </a:rPr>
              <a:t>أصلي حب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3471480"/>
            <a:ext cx="6948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َك يا ربّ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هتف بحبّ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ي مع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ك يا إلهي أصلّيك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3428640"/>
            <a:ext cx="39243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صلي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خوف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حشتي وابتعادي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0"/>
            <a:ext cx="3564000" cy="1203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دعو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حدت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اغمرني واملأ فؤاد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8000" y="3471480"/>
            <a:ext cx="6948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َك يا ربّ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هتف بحبّ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ي مع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ك يا إلهي أصلّيك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0" y="2707920"/>
            <a:ext cx="5796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هرع إليك في لوعت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بسمةٍ من شفتي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هربُ منكَ أهربُ إليكَ فشدَّني بجناحيك</a:t>
            </a:r>
            <a:r>
              <a:rPr b="1" lang="en-US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8000" y="3471480"/>
            <a:ext cx="6948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َك يا ربّ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هتف بحبّ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ي مع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ك يا إلهي أصلّيك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32000" y="2707920"/>
            <a:ext cx="594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ُنشِدُ الدفءَ معك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دغدغ بلمسِك أجفاني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رتاح إليك فضمني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ئلا أفلت من يديك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3471480"/>
            <a:ext cx="6948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َك يا ربّ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هتف بحبّ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ي مع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ك يا إلهي أصلّيك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1:15:47Z</dcterms:created>
  <dc:creator>Charbel Azar</dc:creator>
  <dc:description/>
  <dc:language>en-US</dc:language>
  <cp:lastModifiedBy>-</cp:lastModifiedBy>
  <dcterms:modified xsi:type="dcterms:W3CDTF">2003-01-20T15:53:38Z</dcterms:modified>
  <cp:revision>11</cp:revision>
  <dc:subject/>
  <dc:title>أصلي حبك يا ربي</dc:title>
</cp:coreProperties>
</file>